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C4C-BAE9-4B56-8433-D42CDBB0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87B-D2B9-45ED-9414-222053D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1F6-9207-40E8-A040-BD30F21C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479-3E7D-4FEF-98CB-35E5D1F9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CD5-FAE0-48E8-8338-0A71EA7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147-BA56-46EB-A55B-BD45F0C0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0DB-6751-4B48-B014-BDA240C8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F4C-812F-46A7-B528-C76D8F1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191-3C3F-465E-86EB-F4D48295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CC5-82F6-4B27-9915-C273CB4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991-EF51-4851-91B4-9706C0BF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8E6-884B-4941-B70A-DD87C180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622-9A98-4C73-893F-BFDD8409504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opulation Pyram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M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rrow base to the pyramid, due to low B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ant numbers of people through all bands of working ag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 number of people over 65, which means that there is a high dependent elderly popul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life expectancy, due to good medical care, means that there is a high percentage over 65. This also means that the pyramid is tall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w DR due to good health care. Low infant mortality rate, means that families have less children, but they usually survive to live a long lif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males tend to live longer then ma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de base to the pyramid, due to high BR. This means that there is a high dependent young popul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s decrease as you go up the pyramid, forming the triangular shape of the pyrami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w people over 65, means there is a very small dependent elderly popul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w life expectancy, poor health c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DR and infant mortality rate. Families have more children, as they are not sure how long they might surv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males tend to live longer then ma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composition of the population of a country can tell you a great deal about its developmen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best way to look at this is by studying a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opulation pyramid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s is basically back to back bar graphs, one showing the number of males, the other showing the number of female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 bars represent age bands of 5 year interval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websters-online-dictionary.org/images/wiki/wikipedia/en/thumb/0/0a/Dtm_pyramids.png/450px-Dtm_pyramids.png"/>
          <p:cNvPicPr/>
          <p:nvPr/>
        </p:nvPicPr>
        <p:blipFill>
          <a:blip r:embed="rId1"/>
          <a:stretch/>
        </p:blipFill>
        <p:spPr>
          <a:xfrm>
            <a:off x="30240" y="1700280"/>
            <a:ext cx="920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shap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pyrami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the stage of development that a certain country has reach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pulation pyram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indicate the BR and DR of a count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 a country whose pyramid has a wide base has a high B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numbers rapidly decrease, to form a triangular shaped pyramid, then there must also be a fairly high DR, and so the country is in either the first or second stage of develop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untry in Stage four will have a relatively narrow base, and there will be similar numbers of people in all the bands up until 70, when the numbers will start to f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untry would be one like the UK with good health care, and a high life expecta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 pyramids can also show the percentage of the population, which is described as be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"dependant"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are the groups of people who rely on the economically active members of socie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endants are classified as those under working age (0 - 15 years old) and those who have retired (over 65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rely on the working age group of people between 16 and 6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opulation pyramids can also show significant event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Germany there are far more males between 20 and 35, than there are females of a similar ag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s shows up quite clearly on a pyramid, and is due to the huge numbers of male immigrant workers that came into the country through the 1990'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ey came to Germany to find work, and left their families at home in places such as Yugoslavia and Turke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type of event that can be traced easily on population pyramids, is the effect of w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his leads to large in-balances in the population, with far more women than men of fighting age remaining as the men have been killed in batt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hat Do They S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pyramids can be used to help planning for the future also, as they can used to project the percentages of certain age-groups in the population over the next 50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way plans can be introduced to cope with the forecast changes, such as the ageing population in the U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LEDC’s Vs MEDC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s economically developed countries and more economically developed countries both have certain characteristics that can be seen on a population pyrami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4:03:11Z</dcterms:created>
  <dc:creator>Dell_02</dc:creator>
  <dc:description/>
  <dc:language>en-US</dc:language>
  <cp:lastModifiedBy>Dell_02</cp:lastModifiedBy>
  <dcterms:modified xsi:type="dcterms:W3CDTF">2011-01-25T04:21:51Z</dcterms:modified>
  <cp:revision>2</cp:revision>
  <dc:subject/>
  <dc:title>Population Pyramids</dc:title>
</cp:coreProperties>
</file>